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D05-E3D8-46CB-A23E-2C9DB0E1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0D6F-8F17-4A93-A18C-4CE5A10C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1F2-45E8-42A3-9D58-19845A96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8DF3-072C-4304-A81F-0201CE28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D9F-C7A8-4075-A4E4-D88A4BA3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047E-5B91-4817-9262-C4ED37EB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BA7-57B4-4893-988A-57D9ED7C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8E1-C1EF-4325-B8A6-B22908EE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225-3EE2-4551-9B1B-4BFD099B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E38F-48DA-40C7-8E05-42B5F6C8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B006-0E1F-454B-9433-A9470AEB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CEE-525D-456A-8341-50A35AF5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8C53-63EB-4C8A-A632-673A170DC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Republic of the 1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with France and England in the 1670’s hurt the United Provi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V – abdicates to son Phi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ght with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d into a northern union and the Spanish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 Independence from Spain in 1848 (Peace of Westphal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The Dutch republic, known as the United Provinces of the Netherlands, won its independence from Spain – as confirmed by the Peace of Westphalia in 18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utch achievements in Science, art, and literature were exceptional – a “golden 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Power in the republic resided in local E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The republic was 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ederation: a weak union of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provi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The republic was based o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ues of thrift, frugality, an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igious toleration, including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 for J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Religious tolerati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tered economic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 The fishing industry was the cornerstone of the Dutch economy – stimulating shipbuilding, an huge merchant marine, and other indus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. The Dutch East India Company was formed in 1602; it cut heavily into Portuguese trading in East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The Dutch West India company, founded in 1621, traded extensively in Latin America and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Wages were high for all and most people ate w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3:11:11Z</dcterms:created>
  <dc:creator>umsd</dc:creator>
  <dc:description/>
  <dc:language>en-US</dc:language>
  <cp:lastModifiedBy>umsd</cp:lastModifiedBy>
  <dcterms:modified xsi:type="dcterms:W3CDTF">2008-12-02T13:26:49Z</dcterms:modified>
  <cp:revision>3</cp:revision>
  <dc:subject/>
  <dc:title>The Dutch Republic of the 17th Century</dc:title>
</cp:coreProperties>
</file>